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EA3-E82C-4053-86AC-EFF38AD2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322-4C4D-4965-873F-917AC14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DC7-6E6B-49B6-B8F2-5A33158E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3C6-191B-476A-9AFA-168FBC3D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BAA-D9DC-470C-93D9-55D8581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C76-1D63-4346-86B0-9929876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AA8-FD97-4D67-9C0B-5159DFF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A78-705A-44C7-9356-E020170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B54-B91A-42EB-BE24-5D3ADF0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F6B-983E-45C1-A574-A729368D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917-117A-499F-9F66-67E9B3C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FFF-137E-43AB-83DD-59F7678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398D-A8A6-4F5C-A654-0CC842C643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2987640" cy="1268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24280"/>
            <a:ext cx="291636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620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333360"/>
            <a:ext cx="2160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236000" y="69192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360" y="0"/>
            <a:ext cx="1547640" cy="1628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1484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96360" y="2133720"/>
            <a:ext cx="1547640" cy="25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…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524360" y="479736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5445000"/>
            <a:ext cx="1908000" cy="14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8000" y="645336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6524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435280" y="659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6021360"/>
            <a:ext cx="1152360" cy="836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373720"/>
            <a:ext cx="2951280" cy="148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, 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645000"/>
            <a:ext cx="216072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e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6165720"/>
            <a:ext cx="1152360" cy="69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924360" y="4797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084640"/>
            <a:ext cx="11509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8690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5157720"/>
            <a:ext cx="100800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860640"/>
            <a:ext cx="1295640" cy="1224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148428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700280"/>
            <a:ext cx="7164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916280"/>
            <a:ext cx="3240000" cy="11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chiama i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i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rivano st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cercano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40Z</dcterms:created>
  <dc:creator>studente</dc:creator>
  <dc:description/>
  <dc:language>en-US</dc:language>
  <cp:lastModifiedBy>studente</cp:lastModifiedBy>
  <dcterms:modified xsi:type="dcterms:W3CDTF">2017-01-30T08:08:21Z</dcterms:modified>
  <cp:revision>2</cp:revision>
  <dc:subject/>
  <dc:title>Diapositiva 1</dc:title>
</cp:coreProperties>
</file>